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2BD5-FDCA-408E-921C-18993446E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0C4C-80AA-45BD-A53E-0C7B3BF47ACF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3874-B60D-476B-9407-0B114F4C1858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EED9-3857-41DB-B825-82AB06BD6498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2EC2-81CC-4B6F-A1A0-F1D655ABCAE3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E46-1C61-4299-BA12-5DF04A7A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E7B-DA25-4C4C-A8D9-D4197655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D5C-5586-4DCF-AA11-7C8B60BE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354-BE45-4A73-A98C-0382C18D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B3CD-1CEB-40C4-8CAC-61634331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3BEE-534B-4E51-BFFD-3EB032E5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5A3B-F03D-4820-A9B7-011D1CC6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B755-C129-4B44-88A8-B81B404F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1319-60F5-41B0-B93A-A84904BC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6DC5-2D40-4FF4-95FF-1BA4518D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29B2-9247-4BE1-99BC-D69D8D65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0DC-73F0-4BF9-A627-27CE863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3F01-F55B-4B11-BB81-916A26C1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4B63-4ECE-4ADA-9578-561C128C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7C3C-0FE7-4A84-933B-BF757CA0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C5FC-6E93-4901-98E8-C1B60210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0C6B-5271-4575-B725-DD4E1CA3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61A-0FE4-4142-8569-E44852C0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96D-BDA0-47DC-B599-DD640CBD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B2A-7F51-42CC-99D6-E33C6E5F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359-9316-4F74-99CD-9A856A47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1BA-2E31-4F84-8212-45A25D52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150-F0E1-46A1-846A-17E6B7F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1FC-BF7F-4258-97E3-3FB23712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E850-B778-46AD-881B-DF6DC8E69B9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2904-D862-45C9-A3F4-6632538A1B0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Steps To Graphical Analy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aphs are one of the tools of the trade for Physicists. There are three basic things you can do with a grap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. You can __________off the 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You can find ________ of the 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You can calculate the _____ between the curve and the x-axis of the grap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 ACTIV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struct an accurate graph of the following dat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43000" y="4038480"/>
          <a:ext cx="6172200" cy="20606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(y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(m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-10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-5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+5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+20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(x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(s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2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. What is the objects position at t = 3.0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What is the change in position between       t = 6.0 s and t = 10.0 s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Determine the slope of the graph us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 = 0.0 s and t = 6.0 s . Repeat using                   t = 2.0 s and t = 12.0 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. What property of motion is represented by the slope?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lope Formul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lope =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rise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 u="sng" baseline="-25000">
                <a:solidFill>
                  <a:srgbClr val="5b5249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 – y</a:t>
            </a:r>
            <a:r>
              <a:rPr b="0" lang="en-US" sz="3200" spc="-1" strike="noStrike" u="sng" baseline="-25000">
                <a:solidFill>
                  <a:srgbClr val="5b5249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d</a:t>
            </a:r>
            <a:r>
              <a:rPr b="0" lang="en-US" sz="3200" spc="-1" strike="noStrike" u="sng" baseline="-25000">
                <a:solidFill>
                  <a:srgbClr val="5b5249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 – d</a:t>
            </a:r>
            <a:r>
              <a:rPr b="0" lang="en-US" sz="3200" spc="-1" strike="noStrike" u="sng" baseline="-25000">
                <a:solidFill>
                  <a:srgbClr val="5b5249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un    x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- x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22:58:01Z</dcterms:created>
  <dc:creator>district 17</dc:creator>
  <dc:description/>
  <dc:language>en-US</dc:language>
  <cp:lastModifiedBy>Administrator</cp:lastModifiedBy>
  <cp:lastPrinted>2009-04-22T19:24:48Z</cp:lastPrinted>
  <dcterms:modified xsi:type="dcterms:W3CDTF">2010-09-04T19:12:47Z</dcterms:modified>
  <cp:revision>7</cp:revision>
  <dc:subject/>
  <dc:title>Three Steps To Graphical Analysis</dc:title>
</cp:coreProperties>
</file>